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3BCA-0C2D-4F2F-A318-D7A0F6C1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92A4-FB31-4882-93DC-2EF97409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4F9-56E6-4A6E-A13D-01C49DA5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A890-3724-4777-9CB0-8EFFAC83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6078-EB67-4803-B52C-6F26AA85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1C14-FFAB-470D-9414-17942536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0E14-D492-4C65-AEA4-2882CB1B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57C5-6608-46A7-9D94-8F687271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F90B-DD5B-44DF-9449-2B176CB5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8995-B651-4FA5-A40B-202BF8B7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4B35-D3F1-44B2-9B49-9A0F439D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9E5F-43C3-4461-9BB0-6A504908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B214-6D5D-4A24-9ECE-C701E386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F152-6DEC-49E6-ACBF-F846FCDA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0507-AA48-4F86-A7C8-4948A345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78D2-E42C-4B73-986D-484A0AF5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678A-9F40-4F54-8E06-45D35E2C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36139-1A9D-4AA4-9AE6-AB4B8F5B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9FEA0-E9F4-4E93-8FE9-80CB6781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9E8C0-9A2B-494F-9B20-2153FC7B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4B2F9-EA5B-47A9-A48F-B1E03936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DB92A-953F-495F-9DE9-B195C5BD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05C6-C511-4238-AE28-D5BFF5E7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04773-FFA8-462D-BC56-EEC00E55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F2CCD-B743-4B76-8982-1D46949A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1D40A-B411-4AB4-B780-CBC0CDE4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97A8F-C5FF-4218-9166-FE02573F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5C86B-26B2-4765-BDF5-DF305D06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FC153-358E-43B4-8286-63A05487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0D4FE-BAC2-415E-B134-8E0D958E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AA835-DA96-4BAD-9BBE-E58F39B8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8864C-FDAA-44EF-B699-757E431F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F68E7-C675-4809-B84D-1781FF94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9FEC-D503-44D7-9147-85BCA826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B414C-3B42-4B40-BF24-158F4B04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AF5FF-A86C-4BCC-94F5-28AC3D55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28E5B-E1AF-4064-B690-A5EBB7A9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60070-4779-49D9-B8D3-9CE9ED32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4E16F-B703-4C2A-906A-08B3D9BA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12AE6-B9D4-4B8B-9E49-D3392EE9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DBFFE-8326-43D1-B118-001C725F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B5FC3-FD5F-4C37-83C1-1DCC30FE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B710A-94CB-4D13-A848-400D10AE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894D7-22F5-4BE7-9642-DC76F811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5652-EE93-4E57-8609-CCB06E87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6AEB0-5C66-494D-BD64-17EBA492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46274-8A32-4A16-986E-89330CCC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D4602-CD51-45B3-9478-462B4143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1D8ED-0D7C-497F-AE63-82ADE3D4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AA7A1-4DCA-40F4-A23C-041A379C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4A159-7F23-4C83-A561-D34E589A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03203-56AD-4496-BA06-88553682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2888F-F60D-43C3-A267-B8D7CD2C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EC468-FF4B-42DB-887A-D0AFA4DF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9DD7C-EDAC-4A0A-A773-90B9BE6E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2BE5-46A7-4ED0-AD0F-FDA16558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9FDD4-8823-44E9-8511-2CCBC156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60117-F8D2-4B31-B031-6CFD44F0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97E10-5070-4C10-BB6F-4A695213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1B729-FE7C-4866-9C3E-BCA4298C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D7520-4969-4B22-94D7-1C7086FE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902C7-0C9F-4AB7-B8D0-67A81734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A939B-D244-4AC3-8C74-8DA0FFE1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BAF77-08C3-4AD9-9BF0-32A67C8F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552E4-DE15-4795-97FC-27E9702D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7D071-16D4-41CB-B841-06A0BAD2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4732-89F2-4879-9028-CF4EAE57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DA054-AB5A-482E-B48A-85047320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50EC6-961E-4D61-8141-EB4A1024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185EF-B3CA-4CE3-A2FA-7D9F5255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83CE8-885B-4F17-B19A-D1028284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C92D4-7A86-4FB6-8F0A-C8B4C594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50A2B-0059-497D-BBC7-50AF700E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F87DD-B054-42EC-AF27-5BAB6B80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2875A-4AFF-40F6-A45A-5DF5EE60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77085-8157-4392-BD17-10BD357E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30A48-039E-415A-9DA0-7968C1C9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8117-B5AD-49BB-8C84-3D638313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82EAC-1BF9-4B58-AA65-E7FD9095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E99F8-0278-4A17-8F88-FB82D5B3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91EB4-FFCB-4B5E-913A-13E17DB3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E7B63-1C50-4907-9AC7-8CDDA049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7EFF2-32DC-4FFC-B66A-99CDE2EC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ED8-9F4E-4AAE-A8F9-EF350AC8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1171-17FE-4C1E-A813-B0556BAE3F3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E98E-78E5-426C-BC5C-8FA0B9BDA23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B9F6-A49E-4D45-A4C1-1659E8AA8DA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EDD8-AC4E-40BF-9473-7E1C41951CC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0C68-0D00-48E8-8220-65940DBAB5A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8765-424F-4CF3-AC82-4B438585D8A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02D6-2AB8-4E82-9C46-C2C34CD935C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873680" y="338040"/>
            <a:ext cx="3813120" cy="24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7080" y="6172200"/>
            <a:ext cx="784836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Презентация выполнена учителем английского языка Саркисянц Е.А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Рисунок 5" descr=""/>
          <p:cNvPicPr/>
          <p:nvPr/>
        </p:nvPicPr>
        <p:blipFill>
          <a:blip r:embed="rId1"/>
          <a:stretch/>
        </p:blipFill>
        <p:spPr>
          <a:xfrm>
            <a:off x="1017720" y="1328760"/>
            <a:ext cx="3146400" cy="60102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2"/>
          <a:stretch/>
        </p:blipFill>
        <p:spPr>
          <a:xfrm>
            <a:off x="685800" y="415800"/>
            <a:ext cx="78120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a) The larges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) The second larges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) The smalles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8</a:t>
            </a: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. Canada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is the _____ country in the world ?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44658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a) Toront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) Montrea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) Vancouv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9. What is the largest city in Canada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9" name="Picture 9" descr="canada001"/>
          <p:cNvPicPr/>
          <p:nvPr/>
        </p:nvPicPr>
        <p:blipFill>
          <a:blip r:embed="rId1"/>
          <a:stretch/>
        </p:blipFill>
        <p:spPr>
          <a:xfrm>
            <a:off x="3657600" y="228600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a) Niagara fall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) Grand Cany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) Louvr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10. What is popular sightseeing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473076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5029200" y="228600"/>
            <a:ext cx="3733920" cy="22860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3962160" y="2971800"/>
            <a:ext cx="5181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Wide Latin"/>
              </a:rPr>
              <a:t>Canada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Quiz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5" name="Picture 8" descr=""/>
          <p:cNvPicPr/>
          <p:nvPr/>
        </p:nvPicPr>
        <p:blipFill>
          <a:blip r:embed="rId2"/>
          <a:stretch/>
        </p:blipFill>
        <p:spPr>
          <a:xfrm>
            <a:off x="190440" y="9684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"/>
          <p:cNvPicPr/>
          <p:nvPr/>
        </p:nvPicPr>
        <p:blipFill>
          <a:blip r:embed="rId3"/>
          <a:stretch/>
        </p:blipFill>
        <p:spPr>
          <a:xfrm>
            <a:off x="152280" y="2095560"/>
            <a:ext cx="3886200" cy="28479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Picture 10" descr=""/>
          <p:cNvPicPr/>
          <p:nvPr/>
        </p:nvPicPr>
        <p:blipFill>
          <a:blip r:embed="rId4"/>
          <a:stretch/>
        </p:blipFill>
        <p:spPr>
          <a:xfrm>
            <a:off x="4495680" y="5029200"/>
            <a:ext cx="3353040" cy="160020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2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Picture 13" descr=""/>
          <p:cNvPicPr/>
          <p:nvPr/>
        </p:nvPicPr>
        <p:blipFill>
          <a:blip r:embed="rId5"/>
          <a:stretch/>
        </p:blipFill>
        <p:spPr>
          <a:xfrm>
            <a:off x="1905120" y="231840"/>
            <a:ext cx="25527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1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773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1. How many oceans is Canada washed by 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2438280" y="1752480"/>
            <a:ext cx="6234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1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15328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2. How many countries border Canada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2143080" y="1600200"/>
            <a:ext cx="6172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oront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Ottaw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Vancouver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3. What is the capital city of Canada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3" name="Picture 4" descr=""/>
          <p:cNvPicPr/>
          <p:nvPr/>
        </p:nvPicPr>
        <p:blipFill>
          <a:blip r:embed="rId1"/>
          <a:stretch/>
        </p:blipFill>
        <p:spPr>
          <a:xfrm>
            <a:off x="3186000" y="1981080"/>
            <a:ext cx="2314800" cy="2133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" descr=""/>
          <p:cNvPicPr/>
          <p:nvPr/>
        </p:nvPicPr>
        <p:blipFill>
          <a:blip r:embed="rId2"/>
          <a:stretch/>
        </p:blipFill>
        <p:spPr>
          <a:xfrm>
            <a:off x="5791320" y="1981080"/>
            <a:ext cx="2974680" cy="22291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3"/>
          <a:stretch/>
        </p:blipFill>
        <p:spPr>
          <a:xfrm>
            <a:off x="3429000" y="4343400"/>
            <a:ext cx="3076560" cy="23050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a)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eaver &amp; Maple Leaf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) Maple Leaf &amp; Moos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) Beaver &amp; Grizzly Bea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4. Canada has two national symbols. What are they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609480" y="3962520"/>
            <a:ext cx="3162600" cy="2143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"/>
          <p:cNvPicPr/>
          <p:nvPr/>
        </p:nvPicPr>
        <p:blipFill>
          <a:blip r:embed="rId2"/>
          <a:stretch/>
        </p:blipFill>
        <p:spPr>
          <a:xfrm>
            <a:off x="5643720" y="1498680"/>
            <a:ext cx="2000160" cy="2482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"/>
          <p:cNvPicPr/>
          <p:nvPr/>
        </p:nvPicPr>
        <p:blipFill>
          <a:blip r:embed="rId3"/>
          <a:stretch/>
        </p:blipFill>
        <p:spPr>
          <a:xfrm>
            <a:off x="4419720" y="4267080"/>
            <a:ext cx="3233520" cy="2171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"/>
          <p:cNvPicPr/>
          <p:nvPr/>
        </p:nvPicPr>
        <p:blipFill>
          <a:blip r:embed="rId4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e Canadian dolla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e Canadian pou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e Canadian fran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5. Canada’s currency is…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5" name="Picture 6" descr=""/>
          <p:cNvPicPr/>
          <p:nvPr/>
        </p:nvPicPr>
        <p:blipFill>
          <a:blip r:embed="rId1"/>
          <a:stretch/>
        </p:blipFill>
        <p:spPr>
          <a:xfrm>
            <a:off x="1676520" y="4191120"/>
            <a:ext cx="5638680" cy="22096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a) Republic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) Domin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) Kingdo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6. What is the status of Canada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9" name="Picture 4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2381400" cy="19242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a) English and Spanish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) Spanish and French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) English and French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7. Which are the official languages of Canada?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3" name="Picture 5" descr="Vancouver_Aerial"/>
          <p:cNvPicPr/>
          <p:nvPr/>
        </p:nvPicPr>
        <p:blipFill>
          <a:blip r:embed="rId1"/>
          <a:stretch/>
        </p:blipFill>
        <p:spPr>
          <a:xfrm>
            <a:off x="3962520" y="3376440"/>
            <a:ext cx="488772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на</cp:lastModifiedBy>
  <dcterms:modified xsi:type="dcterms:W3CDTF">2017-10-08T15:24:23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