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425-A939-40E2-B48D-7D10BEC8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CE7-0AF2-480D-B1E4-60DD28F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6FA-12F3-4B16-A686-CBCD1DDA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68E-9BDE-4839-B5BB-3191CE0E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941-3C2C-47A3-B6DD-B5B8E120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8063-2451-4958-8C63-C6CB1AF3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CABA-7D30-449A-BCDB-B1DA23C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9D11-07B9-4631-9EA1-D698D398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3459-A2D4-4DA9-A7DA-12EDF84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ACEA-844B-4E4C-A90B-A82A326D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7747-4BBC-4CCF-BABB-5BED95B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CBC-9321-4A59-8A42-F09825BE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F4D-E579-4460-892F-FCE4B03A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1B52-2ED9-4DF6-BF0A-D9578D2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872-6655-409B-B612-5B33A7BF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B216-E018-463F-8F5E-CB82E4C4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CD4A-587F-4573-93C4-E4E33B29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763CC-D405-4E26-AF0D-B0C4808B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62C8B-41A0-407A-AB49-1FD0A444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7DF6-92E0-4790-B0F3-4194473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AB08D-4447-49D0-8422-6520AAA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C927-2162-43C0-9613-466AC2ED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C9-7C7A-4E40-8438-BB8FDA46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7AA0-F396-47CD-BBE7-331DE291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45FE-B0A8-48E0-95E3-483F303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C2C6-8F56-4A16-BBA3-59966A06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46B3-77F6-47E0-999D-0D1A4263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AF4E-6DA1-4979-9044-5E7BE98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1FDB6-825B-49C8-A0A9-DD65337F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00A4-60CA-4E25-9A05-9934168F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C82C-A042-4D1B-A642-57551E34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3508-7BB1-4E3B-A7E0-E5DEA792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C54A-0241-4C8D-A0E7-F1BBD2FE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48A-0F06-46AF-A6A3-B121C86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1B0A4-27CA-472C-96DA-04EBFFEA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1F41-05C5-482E-85D9-4A9BBD76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88C0-9E69-4867-9EFF-ABABD8D4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56ACB-A6C4-4755-88A9-1E57A87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2303-E3DF-432E-92DC-0C2BA1DF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D2F7-118D-4455-87D0-BAF6E42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338E-3FA1-44DD-934A-A5965E5F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3AD9-60F9-4CAE-8DEA-344B47C9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B0D9-600E-4A66-9603-1FA93E93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F36A-DBD5-44F4-896C-7E2DA40B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949-21E3-4D55-8A9D-111811C3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A670E-B0EC-43A8-BC4F-F34F36A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B8C0-75D9-49D4-B6DF-8EE27A52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DEF62-9928-4F47-BE30-74FA034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1F1CF-4749-46A8-B92B-F8D2B83D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61BF9-52CD-46D2-927E-970B25D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E9B2-1467-4761-8751-E1CB542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1DF07-B86B-4B82-8342-E3FE9AA4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1D92-AF07-4BD5-A16A-3FCAC94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36BD-4A94-48F8-8214-2387F642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B2102-55D7-4C72-85AF-22529C57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AF4-EF73-4ABD-9070-E213388C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F6BA-52F6-44CC-81AF-E98672EB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21C74-7162-4179-8848-A97C4718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96F78-09BA-4CDB-A503-46BF612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10A2-9C45-444C-BC38-31E14661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E711-B04B-49FD-9095-692E26B2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B0F3-1439-42C7-BAD3-99FD3C94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55F8-8057-4441-9CCF-3FBB464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D1A0C-ADB4-4C7E-9FDA-16CFC3E0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65DD-E67A-4E65-B4DB-14BB8ADE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856EE-4ED4-4E2D-8A0C-45F173F2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6F8-20DF-44E8-A5CB-02D5423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E032E-8B2B-4712-86C7-2D7F670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5E19D-CBFF-43B9-A4EE-FA73D801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A7411-D67A-4934-B9E0-58A2F6F3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30FB-1656-4F9F-916F-6B96D674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C0F7E-33A2-49CA-B7EF-9DAF5431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BEAA-4E5A-4200-B3BE-B1AC072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DFAA-89F7-44CE-951C-3969EB13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B4B5-B7C4-4DBA-9396-8C7C2D72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F9085-083B-4F0A-824B-1DC2798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F781-E4D1-4654-996E-42CE7E3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F26-EF69-4026-85C3-715ABE7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B8B19-D292-4DD1-989D-82BBDD82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ED6E8-D9FE-4015-B004-5415FC2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70B3-47E8-49E7-B950-712BA9B4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1942-7C36-4D2C-BEE7-D4B2051D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CDFB-6707-47A9-B96D-9C462EFF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173-9098-49C8-B0E1-1DBF1A0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7C2-CFDA-41FC-8491-62AD61A6711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E792-16A7-4BAB-A2DE-6B73C570E6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6289-9747-4D4D-86DE-43ED3CEF573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B691-483E-41A0-B88A-AC8D19D533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4BF4-0397-47F5-AF89-AF8D96D8A3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01C-B702-4478-A5B8-0A6CF79CFDC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4FEB-B2E8-4EC2-B26D-599CBEBB6B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24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7080" y="61722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зентация выполнена учителем английского языка Саркисянц Е.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1"/>
          <a:stretch/>
        </p:blipFill>
        <p:spPr>
          <a:xfrm>
            <a:off x="1017720" y="1328760"/>
            <a:ext cx="3146400" cy="6010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85800" y="415800"/>
            <a:ext cx="7812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he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The second larg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The smalle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8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. Canada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is the _____ country in the world 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44658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ontre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Vancouv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9. What is the largest city in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9" descr="canada001"/>
          <p:cNvPicPr/>
          <p:nvPr/>
        </p:nvPicPr>
        <p:blipFill>
          <a:blip r:embed="rId1"/>
          <a:stretch/>
        </p:blipFill>
        <p:spPr>
          <a:xfrm>
            <a:off x="3657600" y="2286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Niagara fall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Grand Cany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Louvr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10. What is popular sightseeing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7307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62160" y="297180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Wide Latin"/>
              </a:rPr>
              <a:t>Canada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Quiz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8" descr=""/>
          <p:cNvPicPr/>
          <p:nvPr/>
        </p:nvPicPr>
        <p:blipFill>
          <a:blip r:embed="rId2"/>
          <a:stretch/>
        </p:blipFill>
        <p:spPr>
          <a:xfrm>
            <a:off x="190440" y="9684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3"/>
          <a:stretch/>
        </p:blipFill>
        <p:spPr>
          <a:xfrm>
            <a:off x="152280" y="2095560"/>
            <a:ext cx="3886200" cy="2847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10" descr=""/>
          <p:cNvPicPr/>
          <p:nvPr/>
        </p:nvPicPr>
        <p:blipFill>
          <a:blip r:embed="rId4"/>
          <a:stretch/>
        </p:blipFill>
        <p:spPr>
          <a:xfrm>
            <a:off x="4495680" y="5029200"/>
            <a:ext cx="3353040" cy="1600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2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13" descr=""/>
          <p:cNvPicPr/>
          <p:nvPr/>
        </p:nvPicPr>
        <p:blipFill>
          <a:blip r:embed="rId5"/>
          <a:stretch/>
        </p:blipFill>
        <p:spPr>
          <a:xfrm>
            <a:off x="1905120" y="231840"/>
            <a:ext cx="25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1. How many oceans is Canada washed by 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6234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2. How many countries border Canada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143080" y="1600200"/>
            <a:ext cx="6172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oront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Ottaw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Vancouver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3. What is the capital city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3186000" y="1981080"/>
            <a:ext cx="231480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974680" cy="2229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3076560" cy="23050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eaver &amp; Maple Leaf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Maple Leaf &amp; Moos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Beaver &amp; Grizzly Be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4. Canada has two national symbols. What are they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162600" cy="2143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5643720" y="1498680"/>
            <a:ext cx="2000160" cy="2482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3233520" cy="2171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dolla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pou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spcBef>
                <a:spcPts val="601"/>
              </a:spcBef>
              <a:buClr>
                <a:srgbClr val="31b6fd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e Canadian fran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5. Canada’s currency is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5638680" cy="2209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Republic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Domin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Kingdo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6. What is the status of Canada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19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) English and Spanis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b) Span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) English and Fren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ndara"/>
              </a:rPr>
              <a:t>7. Which are the official languages of Canada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5" descr="Vancouver_Aerial"/>
          <p:cNvPicPr/>
          <p:nvPr/>
        </p:nvPicPr>
        <p:blipFill>
          <a:blip r:embed="rId1"/>
          <a:stretch/>
        </p:blipFill>
        <p:spPr>
          <a:xfrm>
            <a:off x="3962520" y="3376440"/>
            <a:ext cx="48877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7-10-08T15:24:23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