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CC3-CCBF-448A-99EC-A9139FE5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3D7-0633-4BD7-B5ED-2A5846C8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B64-206B-434C-9FC1-A59DEE4D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92D-215D-4232-9ADD-168593BF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1935-E39C-4DDF-8C99-0FF54BD5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9407-53C5-4CF3-8916-360E78FE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6122-50EB-40F6-BAFA-7D0C42C4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760D-9055-48A3-9961-7A061AD5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4AE5-FC22-4016-906A-3C0E14F1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2458-5A67-4897-80A0-8C0BCEC3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D076-0904-4FC7-9A4F-16EEF24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7B0-C672-4D9C-9527-505862D9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DC1-D145-4644-A9E8-BB6EA94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EEBE-257B-4F7C-AC2B-3E4BCEE0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40F2-CBBA-4B4E-8A6E-556E552E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1033-189E-427E-9186-70661695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AA6-7F1B-40C8-A0CC-472F0E81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901C-C3CA-4E9E-A62D-C5BBD703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F0535-2540-499C-B937-760FB01B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09C8-FD28-42E7-8C99-FDBE915B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2E76-FA28-48D1-AB18-345D6992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B4D1-966D-4B70-BE44-58C8EC17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206-8A2E-472C-8288-8B2728CF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ABC5-2F47-4266-AC31-2B87D6BF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3AF9-67FD-469B-8CDC-91A2FE1C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6E649-0FD0-4E4E-B060-41431109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7C73D-E32D-430B-A84D-4FA36AA5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BAA2F-B158-4046-AC2F-1C2F1411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964D-9B4C-45FF-B4BD-171A2BDD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7BA3-2EC2-4A6C-B0F5-3D86B9F0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791D-6E09-4BB9-860A-708867A0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A231-5D7B-4081-A0B3-FF7521E8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8D405-023E-455D-A282-AB1C5E25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6BE-2DA9-4FE3-9C49-1490E48B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745B2-C453-42A6-AF64-1EE6264F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6896-DFAB-46DD-9234-3015A842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4AF0C-D13E-46FB-8350-CCD3F87E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C89E3-DC0C-46CC-8872-9E44042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C5ED6-C455-46DA-91D2-635D6A0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CD5DB-8FA4-49A1-884F-77356413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C2BEC-9C8B-4D72-A180-0525527A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B7962-E118-4D76-935A-D5E297E5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655F8-11CE-43B4-99E2-7D600E33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8419-A9B3-46EC-BBDC-FDEE1313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4D0-74B0-4970-85BD-76931371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12CD-CD6F-4394-817E-D2E7E3EC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EC82C-9F14-4926-B262-18078980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D5C4-7497-4161-9441-79F42061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0AF6-0E53-4AD9-B292-228B280B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FC555-970E-4D5C-AEC6-765608D7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22F9-D346-4F57-8200-E973DD6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185C-514C-46A5-85B1-E06DA2FF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76708-178A-4CD0-A979-FD946F8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D7ADD-B7FE-48F9-AECB-2CFB770A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CEB4-7380-4115-8AD9-CFD31E6C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E34-8DA5-45D2-A8C9-76FD8117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3120F-9FFD-4DAE-8539-8D99A95E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09A0B-C77F-449A-A6B3-57D1E0DB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4A047-4E63-4ED9-A6A9-104D269C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9AFE-A4E8-4A9C-ABF5-6646247F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DCE54-D9C5-462B-8B50-50E87D72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6E34-2732-4DCB-A4B6-46F85659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8559-0925-4800-9959-8E1C8ED1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C2018-8A74-4D9A-840A-0182908E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ED624-EFEA-48EE-B1FC-128A14C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6AE40-2336-41C1-BB3C-7B1ABC81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18D-C60C-4195-BF2C-036A8F5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40DA-422F-450D-BEEB-2E9CF5A9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9051D-4FFB-40FB-BD82-7F899FE6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4D67-BC74-428F-AA27-C0C7560B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AA079-C510-464F-85FD-2D83F474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93970-9A1D-432D-A1BA-983D06A3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3CB4-4B84-4CAE-B555-5461ECE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EA547-873B-4284-9076-10F6BBA6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93FD-798D-41E8-9AA2-E2A9CA46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1A7E7-F4DC-47E1-8BCE-7F59ADE3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4FE8D-68B1-4B22-9C1B-24564F3C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52A-D14B-4840-AC1C-7737FF20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B68D5-9C50-4F5E-9CE3-A544F0E5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4F6E2-FF7A-480A-8DA4-59B018E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E680C-0111-4012-9D80-E40DA80B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1F57-A6A1-4A26-AAC7-AC8731A8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443B2-ACE7-4588-BAD4-DD1DF06E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B60-6E0B-459B-9B8D-5B715E4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B78B-6885-4E1C-B3A3-4A625BC2F9B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4C3D-97AD-45CC-BA94-4739364B2C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D5C-6566-4155-A5D7-AFB888B349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C64B-34DB-4DCD-BA3C-F279D8B28F9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994B-7886-46A7-BCCD-835A192A86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92D7-23A1-4837-8A25-6220E3FA634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F332-5659-4429-82AB-71A9FEE49A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73680" y="338040"/>
            <a:ext cx="3813120" cy="24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7080" y="61722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езентация выполнена учителем английского языка Саркисянц Е.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5" descr=""/>
          <p:cNvPicPr/>
          <p:nvPr/>
        </p:nvPicPr>
        <p:blipFill>
          <a:blip r:embed="rId1"/>
          <a:stretch/>
        </p:blipFill>
        <p:spPr>
          <a:xfrm>
            <a:off x="1017720" y="1328760"/>
            <a:ext cx="3146400" cy="6010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685800" y="415800"/>
            <a:ext cx="7812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The large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The second large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The smalle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8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. Canada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is the _____ country in the world 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4658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Toro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Montre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Vancouv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9. What is the largest city in Canada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9" descr="canada001"/>
          <p:cNvPicPr/>
          <p:nvPr/>
        </p:nvPicPr>
        <p:blipFill>
          <a:blip r:embed="rId1"/>
          <a:stretch/>
        </p:blipFill>
        <p:spPr>
          <a:xfrm>
            <a:off x="3657600" y="228600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Niagara fall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Grand Cany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Louvr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10. What is popular sightseeing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7307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733920" cy="2286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962160" y="2971800"/>
            <a:ext cx="5181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Wide Latin"/>
              </a:rPr>
              <a:t>Canada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Quiz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Picture 8" descr=""/>
          <p:cNvPicPr/>
          <p:nvPr/>
        </p:nvPicPr>
        <p:blipFill>
          <a:blip r:embed="rId2"/>
          <a:stretch/>
        </p:blipFill>
        <p:spPr>
          <a:xfrm>
            <a:off x="190440" y="9684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3"/>
          <a:stretch/>
        </p:blipFill>
        <p:spPr>
          <a:xfrm>
            <a:off x="152280" y="2095560"/>
            <a:ext cx="3886200" cy="28479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Picture 10" descr=""/>
          <p:cNvPicPr/>
          <p:nvPr/>
        </p:nvPicPr>
        <p:blipFill>
          <a:blip r:embed="rId4"/>
          <a:stretch/>
        </p:blipFill>
        <p:spPr>
          <a:xfrm>
            <a:off x="4495680" y="5029200"/>
            <a:ext cx="3353040" cy="16002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2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13" descr=""/>
          <p:cNvPicPr/>
          <p:nvPr/>
        </p:nvPicPr>
        <p:blipFill>
          <a:blip r:embed="rId5"/>
          <a:stretch/>
        </p:blipFill>
        <p:spPr>
          <a:xfrm>
            <a:off x="1905120" y="231840"/>
            <a:ext cx="25527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1. How many oceans is Canada washed by 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6234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2. How many countries border Canada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2143080" y="1600200"/>
            <a:ext cx="6172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oro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Ottaw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Vancouve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3. What is the capital city of Canada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3186000" y="1981080"/>
            <a:ext cx="2314800" cy="2133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974680" cy="2229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3"/>
          <a:stretch/>
        </p:blipFill>
        <p:spPr>
          <a:xfrm>
            <a:off x="3429000" y="4343400"/>
            <a:ext cx="3076560" cy="23050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eaver &amp; Maple Leaf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Maple Leaf &amp; Moos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Beaver &amp; Grizzly Be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4. Canada has two national symbols. What are they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162600" cy="214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5643720" y="1498680"/>
            <a:ext cx="2000160" cy="2482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"/>
          <p:cNvPicPr/>
          <p:nvPr/>
        </p:nvPicPr>
        <p:blipFill>
          <a:blip r:embed="rId3"/>
          <a:stretch/>
        </p:blipFill>
        <p:spPr>
          <a:xfrm>
            <a:off x="4419720" y="4267080"/>
            <a:ext cx="3233520" cy="2171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Canadian doll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Canadian pou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Canadian fran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5. Canada’s currency is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5638680" cy="2209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Republic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Domin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Kingdo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6. What is the status of Canada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2381400" cy="1924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English and Spanis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Spanish and Fren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English and Fren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7. Which are the official languages of Canada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Picture 5" descr="Vancouver_Aerial"/>
          <p:cNvPicPr/>
          <p:nvPr/>
        </p:nvPicPr>
        <p:blipFill>
          <a:blip r:embed="rId1"/>
          <a:stretch/>
        </p:blipFill>
        <p:spPr>
          <a:xfrm>
            <a:off x="3962520" y="3376440"/>
            <a:ext cx="48877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7-10-08T15:24:2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