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8.gif" ContentType="image/gi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9.png" ContentType="image/png"/>
  <Override PartName="/ppt/media/image1.png" ContentType="image/png"/>
  <Override PartName="/ppt/media/carbrake.wav" ContentType="audio/x-wav"/>
  <Override PartName="/ppt/media/image18.png" ContentType="image/png"/>
  <Override PartName="/ppt/media/image17.png" ContentType="image/png"/>
  <Override PartName="/ppt/media/image16.png" ContentType="image/png"/>
  <Override PartName="/ppt/media/image13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F24-9BC9-45F9-9DC0-CAD1E25C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570-563B-4EAB-B68D-6F7A5B47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093-9C41-4AB8-B5CA-640D8DCF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842-9562-4C4B-B56D-931BFA7C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0212-DA7F-4F54-84B2-9E4C8AE9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4BF1-6569-4B20-B502-F375F5F9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692A-03FF-42B6-9857-6A87DC0A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0DB2-40A4-4703-9B3E-9FD4D6C4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8CD1-4E4E-42B4-B869-F9517FA8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EDE7-49C4-4A22-9DBE-2A77C55F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E6E6-FE8A-4690-B064-F1D1C41C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110-1E76-435A-9C2A-0594533E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88AF-3FEA-41A4-A6E2-3F1DCB12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875D-E1BB-419E-949F-44D544E3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B744-C879-4DC5-8680-33E1189F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E810-531B-4AB9-A28C-3423F400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9296-1506-4387-8CFA-8E1024EC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B954D-6ACD-48CD-B619-DABFF935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0F4DF-E776-412B-B126-A465A5A4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E5115-BA6D-4D20-8B1F-A631370B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CB119-FF82-4B0F-AE94-27031795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CE354-DBEE-4D22-99B0-E24891CD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43F-3C73-476E-9B0E-6AFE0B4D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55C3D-CFA7-443E-8AD4-9F6ADCBE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4798-0678-48FB-A327-8421A2EB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5AC3-C08B-4287-BA22-7144F5D8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13E35-1C89-4CA4-8799-0AB6691B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EC3A-C6A4-4215-ACCB-1F89B917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66865-F27B-421D-B5B1-95F12796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06483-C4E2-4A19-B7DB-91C79340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F372F-C896-4D60-85D4-B9D79EEF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18948-24C8-45FA-B623-4BD09A89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5780C-5A81-4148-A7F4-16F15603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CA3-3179-4EC6-983F-E506310F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A79C-68BF-4833-A738-8AE64469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779F3-0CBE-4BB1-8C4A-5ED21C21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0B82F-708E-48C3-AB89-AC279CAC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8BCAE-5137-424C-8F93-0CDDB54F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59304-6CDB-43B4-9CC5-E74C3E71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A5768-DABD-4904-9EE3-7BA801E0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04169-4AD5-47F0-8DFE-4A07B490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94197-B299-4AD8-BE80-C6DB39F0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28FE2-928D-4E16-B0FF-1051B62D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B2A71-D722-4BB4-BD02-DE913282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11C-6D9B-4ED7-9935-708E1A6F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C91F-0672-4094-8A0F-510674E1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2A9CD-C59E-489B-B36C-E459E4C9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4A829-F61B-4AA3-AC37-4C6D72E6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FB2E7-A393-49C0-A19D-22A276E0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CC317-247B-40D8-919F-392655B9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93F37-2788-4F45-9D9D-7669E06B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9761A-8AA4-40C6-8D3F-F6E5292C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FFCD9-94D0-4874-B7E7-614046F0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50B57-3EEF-4278-A8BC-3E53D8FE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FB5DA-276E-4537-8D85-3CE35616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5593-C97F-4DBA-8A06-D8248C39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E90E9-A062-4CD8-AA01-2F753D0E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171E8-7904-47B2-85C1-725F2067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44C96-5F27-4B96-9900-FAA80974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1A56B-4FCB-4488-909F-93D44354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5A3D7-00C5-4380-8C42-6FD12651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A79BF-F7B4-42A1-9A11-9B7E9334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57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248BC-0821-4967-9F5E-3E00F804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3D92A-DA70-421F-B5F3-33D5CF6A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7688A-F02D-4065-AAAC-6BBF2579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BAC84-8CAA-4983-B0D8-0C63E04B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284-E7B7-403A-9CA8-74421E93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C7733-E430-4A5F-9098-B92A9931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48B07-88FF-469C-AC14-54FB2FC6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3F551-26FD-49DE-9B4C-459857B3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428-0F55-4857-9EF5-779976AE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CF1-34B7-4A91-89BA-85F25521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E265-68AA-4622-85F5-BDDCCF5AD2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741B-92F6-4EFF-BB74-85F7D805F4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D0A3-2577-427F-BC0C-E5D2BDC33A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DDE0-E75F-4B88-82B6-C0D5302E2D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D9A1-FF95-4A23-B26E-463525CAC1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D4B6-44CA-4D84-B1D0-FF3442A50A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682560" y="476280"/>
            <a:ext cx="7772400" cy="273672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1"/>
          <p:cNvSpPr/>
          <p:nvPr/>
        </p:nvSpPr>
        <p:spPr>
          <a:xfrm>
            <a:off x="4140360" y="5084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Составила учитель МБОУ СОШ №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haroni"/>
              </a:rPr>
              <a:t>Колесников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. Name 12 colours. What`s your favourite colour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2. Name 15 items of clothing and say what you are wearing today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3. Name 15 animals. What`s your favourite animal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Have you got a pet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4. Name all days of the week. What`s your favourite day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5. Name all months of the year. What`s your favourite month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6. Speak about your day. What do you do every day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What did you do yesterday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7. What`s your favourite food? Name 7 fruit and 7 vegetables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8. Name all subjects you have at school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9. What`s your favourite subject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0. Name 5 rooms in the house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1. Name 10 items of furniture. What is there in your room?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12. Name 10 parts of body.</a:t>
            </a:r>
            <a:endParaRPr b="0" lang="en-US" sz="18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11462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you a ………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am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………. me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can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speak ……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 do, but not very well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……. a student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he is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she ….. Spanish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she does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y speak ……?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they do, but not very we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700000" y="333360"/>
            <a:ext cx="6443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rip to Knowledgeland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7" name="Picture 3" descr="BD13659_"/>
          <p:cNvPicPr/>
          <p:nvPr/>
        </p:nvPicPr>
        <p:blipFill>
          <a:blip r:embed="rId1"/>
          <a:stretch/>
        </p:blipFill>
        <p:spPr>
          <a:xfrm>
            <a:off x="4091040" y="4680000"/>
            <a:ext cx="5052960" cy="217800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4"/>
          <p:cNvSpPr/>
          <p:nvPr/>
        </p:nvSpPr>
        <p:spPr>
          <a:xfrm rot="13238400">
            <a:off x="324000" y="472392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2987640" y="57340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1476360" y="5445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 rot="20438400">
            <a:off x="1979640" y="386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755640" y="393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"/>
          <p:cNvSpPr/>
          <p:nvPr/>
        </p:nvSpPr>
        <p:spPr>
          <a:xfrm>
            <a:off x="3419640" y="3357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"/>
          <p:cNvSpPr/>
          <p:nvPr/>
        </p:nvSpPr>
        <p:spPr>
          <a:xfrm rot="20197800">
            <a:off x="4716360" y="314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1"/>
          <p:cNvSpPr/>
          <p:nvPr/>
        </p:nvSpPr>
        <p:spPr>
          <a:xfrm>
            <a:off x="6012000" y="2492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2"/>
          <p:cNvSpPr/>
          <p:nvPr/>
        </p:nvSpPr>
        <p:spPr>
          <a:xfrm rot="15047400">
            <a:off x="6923520" y="158184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3"/>
          <p:cNvSpPr/>
          <p:nvPr/>
        </p:nvSpPr>
        <p:spPr>
          <a:xfrm>
            <a:off x="3780000" y="1557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4"/>
          <p:cNvSpPr/>
          <p:nvPr/>
        </p:nvSpPr>
        <p:spPr>
          <a:xfrm>
            <a:off x="5148360" y="134136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6" descr="626582172"/>
          <p:cNvPicPr/>
          <p:nvPr/>
        </p:nvPicPr>
        <p:blipFill>
          <a:blip r:embed="rId2"/>
          <a:stretch/>
        </p:blipFill>
        <p:spPr>
          <a:xfrm>
            <a:off x="0" y="549360"/>
            <a:ext cx="341964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tion 1</a:t>
            </a:r>
            <a:br>
              <a:rPr sz="4400"/>
            </a:br>
            <a:br>
              <a:rPr sz="4400"/>
            </a:br>
            <a:r>
              <a:rPr b="1" lang="en-US" sz="6900" spc="-1" strike="noStrike">
                <a:solidFill>
                  <a:srgbClr val="feec94"/>
                </a:solidFill>
                <a:latin typeface="Times New Roman"/>
              </a:rPr>
              <a:t>Phonetics</a:t>
            </a:r>
            <a:endParaRPr b="1" lang="en-US" sz="69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01" name="Picture 3" descr="24737972_uchilka3"/>
          <p:cNvPicPr/>
          <p:nvPr/>
        </p:nvPicPr>
        <p:blipFill>
          <a:blip r:embed="rId1"/>
          <a:stretch/>
        </p:blipFill>
        <p:spPr>
          <a:xfrm>
            <a:off x="7020000" y="3645000"/>
            <a:ext cx="2124000" cy="32130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4"/>
          <p:cNvSpPr/>
          <p:nvPr/>
        </p:nvSpPr>
        <p:spPr>
          <a:xfrm>
            <a:off x="179280" y="260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1139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54061"/>
                </a:solidFill>
                <a:latin typeface="Arial"/>
              </a:rPr>
              <a:t>Hickery, pickery my black cat likes to sit in my blue hat.</a:t>
            </a:r>
            <a:endParaRPr b="0" lang="en-US" sz="4500" spc="-1" strike="noStrike">
              <a:solidFill>
                <a:srgbClr val="254061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254061"/>
              </a:solidFill>
              <a:latin typeface="Arial"/>
            </a:endParaRPr>
          </a:p>
          <a:p>
            <a:pPr marL="343080" indent="-343080">
              <a:spcBef>
                <a:spcPts val="10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54061"/>
                </a:solidFill>
                <a:latin typeface="Arial"/>
              </a:rPr>
              <a:t>A girl sees three big grey geese. Sid sees six geese.</a:t>
            </a:r>
            <a:endParaRPr b="0" lang="en-US" sz="4100" spc="-1" strike="noStrike">
              <a:solidFill>
                <a:srgbClr val="254061"/>
              </a:solidFill>
              <a:latin typeface="Arial"/>
            </a:endParaRPr>
          </a:p>
        </p:txBody>
      </p:sp>
      <p:pic>
        <p:nvPicPr>
          <p:cNvPr id="305" name="Picture 4" descr="Рисунок8"/>
          <p:cNvPicPr/>
          <p:nvPr/>
        </p:nvPicPr>
        <p:blipFill>
          <a:blip r:embed="rId4"/>
          <a:stretch/>
        </p:blipFill>
        <p:spPr>
          <a:xfrm>
            <a:off x="6804000" y="242100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Рисунок15"/>
          <p:cNvPicPr/>
          <p:nvPr/>
        </p:nvPicPr>
        <p:blipFill>
          <a:blip r:embed="rId5"/>
          <a:stretch/>
        </p:blipFill>
        <p:spPr>
          <a:xfrm>
            <a:off x="7378560" y="5229360"/>
            <a:ext cx="1765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36480" y="290520"/>
            <a:ext cx="82296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tion 2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6900" spc="-1" strike="noStrike">
                <a:solidFill>
                  <a:srgbClr val="feec94"/>
                </a:solidFill>
                <a:latin typeface="Times New Roman"/>
              </a:rPr>
              <a:t> Grammar</a:t>
            </a:r>
            <a:endParaRPr b="1" lang="en-US" sz="69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08" name="Picture 3" descr="24737972_uchilka3"/>
          <p:cNvPicPr/>
          <p:nvPr/>
        </p:nvPicPr>
        <p:blipFill>
          <a:blip r:embed="rId1"/>
          <a:stretch/>
        </p:blipFill>
        <p:spPr>
          <a:xfrm>
            <a:off x="7093080" y="3573360"/>
            <a:ext cx="2050920" cy="32846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4"/>
          <p:cNvSpPr/>
          <p:nvPr/>
        </p:nvSpPr>
        <p:spPr>
          <a:xfrm>
            <a:off x="179280" y="260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187280" y="259920"/>
            <a:ext cx="7777440" cy="63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254061"/>
                </a:solidFill>
                <a:latin typeface="Arial"/>
              </a:rPr>
              <a:t>Fill in the gaps with </a:t>
            </a:r>
            <a:r>
              <a:rPr b="1" i="1" lang="en-US" sz="4100" spc="-1" strike="noStrike">
                <a:solidFill>
                  <a:srgbClr val="254061"/>
                </a:solidFill>
                <a:latin typeface="Arial"/>
              </a:rPr>
              <a:t>am, is, are</a:t>
            </a:r>
            <a:r>
              <a:rPr b="0" lang="en-US" sz="41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41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I … fine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You … from England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He … very strong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My sister … busy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I have a cat. It … fat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Trees … green in spring. 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My brother … good at school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They … not good friends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Arial"/>
              </a:rPr>
              <a:t>I … in class five.</a:t>
            </a:r>
            <a:endParaRPr b="0" lang="en-US" sz="30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187280" y="1412640"/>
            <a:ext cx="7428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ere, room, in, is, sofa, nice, a, the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There, toys, are, in, box, the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Computer, there, no, is, in, room, the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nice you are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you how old are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is she where?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good they friends not are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324000" y="622440"/>
            <a:ext cx="8229600" cy="981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042920" y="1557360"/>
            <a:ext cx="76550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Ann and Mike is friends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My hobby has reading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We English are.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I have a books. 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25406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Arial"/>
              </a:rPr>
              <a:t>I not am in class six.</a:t>
            </a:r>
            <a:endParaRPr b="0" lang="en-US" sz="3200" spc="-1" strike="noStrike">
              <a:solidFill>
                <a:srgbClr val="254061"/>
              </a:solidFill>
              <a:latin typeface="Arial"/>
            </a:endParaRPr>
          </a:p>
          <a:p>
            <a:pPr marL="5716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54061"/>
              </a:solidFill>
              <a:latin typeface="Arial"/>
            </a:endParaRPr>
          </a:p>
          <a:p>
            <a:pPr marL="5716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540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tion 3.</a:t>
            </a:r>
            <a:br>
              <a:rPr sz="4400"/>
            </a:br>
            <a:br>
              <a:rPr sz="4400"/>
            </a:br>
            <a:r>
              <a:rPr b="1" lang="en-US" sz="6900" spc="-1" strike="noStrike">
                <a:solidFill>
                  <a:srgbClr val="feec94"/>
                </a:solidFill>
                <a:latin typeface="Times New Roman"/>
              </a:rPr>
              <a:t>Vocabulary</a:t>
            </a:r>
            <a:endParaRPr b="1" lang="en-US" sz="69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16" name="Picture 3" descr="24737972_uchilka3"/>
          <p:cNvPicPr/>
          <p:nvPr/>
        </p:nvPicPr>
        <p:blipFill>
          <a:blip r:embed="rId1"/>
          <a:stretch/>
        </p:blipFill>
        <p:spPr>
          <a:xfrm>
            <a:off x="7020000" y="3645000"/>
            <a:ext cx="2124000" cy="321300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4"/>
          <p:cNvSpPr/>
          <p:nvPr/>
        </p:nvSpPr>
        <p:spPr>
          <a:xfrm>
            <a:off x="468360" y="260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7:03:12Z</dcterms:created>
  <dc:creator>Наталья</dc:creator>
  <dc:description/>
  <dc:language>en-US</dc:language>
  <cp:lastModifiedBy>on</cp:lastModifiedBy>
  <dcterms:modified xsi:type="dcterms:W3CDTF">2018-02-21T04:22:21Z</dcterms:modified>
  <cp:revision>8</cp:revision>
  <dc:subject/>
  <dc:title>Слайд 1</dc:title>
</cp:coreProperties>
</file>