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9.png" ContentType="image/png"/>
  <Override PartName="/ppt/media/image1.png" ContentType="image/png"/>
  <Override PartName="/ppt/media/carbrake.wav" ContentType="audio/x-wav"/>
  <Override PartName="/ppt/media/image18.png" ContentType="image/png"/>
  <Override PartName="/ppt/media/image17.png" ContentType="image/png"/>
  <Override PartName="/ppt/media/image16.png" ContentType="image/png"/>
  <Override PartName="/ppt/media/image13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E1E-A905-4372-A6A4-DBDD4039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8CE-2131-4808-814C-D052D25B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FC9-4D95-48C2-A2DE-74D4F442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A03-6AF0-48AD-B56F-B6A5E2F0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2F75-F2DA-4CD7-91E2-D97CD9DA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6774-5F42-4451-892E-B05C3740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F6CC-A99E-4C01-A65E-E2CC9D99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D837-F21A-4E03-AD8D-2B43A412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D0B-1138-4668-88E2-E1D5C50C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ADAA-B628-4D77-B091-D8C95CCC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1CE2-8550-4A63-81CE-3370CDF8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741-E4EA-4854-B2F7-5DC40FB1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148C-7C04-4971-8C12-A2C0CE57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9CAE-9342-4E78-BEDF-A79C5A3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8E7F-0D31-479A-A071-27C71242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AA74-FED2-48DE-B2B9-3910F052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2734-FE9C-4698-8633-1C25F8F6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682D-8878-4A07-8270-B3FAC8AA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1444-9E58-4F2F-907B-4725886A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DE9BD-53E4-4718-AC1C-82B2292F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FCD57-DD89-42DB-8C57-2A710322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E3AAA-0071-4D34-A11E-62C1D450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E15-4E53-44F9-A5DA-263CD8C0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EFBB-72A3-44E2-B8FF-F3C6F36D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DD09-44CB-4E8D-BEC1-8B16745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F1BF-8E47-472B-9129-D42737F0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717FB-0554-4853-B639-C6F26EF4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2CA3-D59D-4AAF-8862-BBF86622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C527B-752A-4FAC-9FD5-A6E040E8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A1BB-CD19-48AF-BD5E-738EEB00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CE1E-A0C1-4945-8E21-B4C2FE9D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28CBD-292B-4E7D-A615-8CE25EEB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FE8D-7EFE-436D-9BA8-D91378A4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6E8-6B5E-4AE1-B088-F2826DF7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940AC-8A0D-42BD-846C-77F35AD1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B7CE9-9F49-4BC5-9683-63E816FE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D90C-33F2-4AB9-86B0-13D1A0BD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458D4-B1B4-4F78-BFF3-CE4570E4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3F420-AFC5-4626-A0C3-A00066F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F582-4AA7-4BD6-9C10-DBC7E462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B0DB-E027-4E6B-9896-1980F14A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5588-BB7F-4DC5-B3EA-B9B05E2B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302A-D962-4940-A9BA-A819215D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5F81B-1EA6-4210-B026-724DD03F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4B2-7EAD-46FF-AD60-087DB5BC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64572-AB54-4D62-8498-06E72123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C1239-0DD2-47A4-98B3-1B9AFD15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273E4-92DF-4939-BD8B-0CC6F80B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6E3EA-13C1-402B-8054-95CBFB19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9E6FB-85D4-44EB-A0E8-055BF2BD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1554B-52BD-4ABD-A61A-21A4183A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1068-E7AF-462A-9ADF-87D2E2C0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8FB51-F3E3-4C3E-8AB4-CCBF8802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D033E-85D3-425B-8EB3-ACE49391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6D7B0-4F76-437D-8527-3A28260B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2F3-A7B0-4898-A61A-CB5B768B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65C0F-6B65-4D54-94D2-41680A09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5C792-4247-4F1E-A108-AB830795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77A75-2791-460F-ACCF-10C46514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9BE37-07E2-4781-A043-9F0F15F0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4512D-A17C-4D7B-9E2C-372DA6DC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C4992-7D3A-4BD6-80C2-69BD07F7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FEE25-F972-47CB-8FEB-EB2C3137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82CF6-264D-483F-93FA-8B99A08C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389DD-5B0D-4C85-ADBF-036CD8D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A3C0-367E-4738-9C04-A0A2DDB6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0C2-2FA4-4DBD-8BF9-78F7BBDA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ABBF6-7ECF-4BBA-8BC5-03845A0B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E3FAC-D929-4266-9A07-891D79B8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AB37E-AC5D-40C0-BCE7-8B770725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154-9CA4-4FF9-9A76-8D6EF286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A99-A7F2-46BA-B7C3-24431822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27EB-15F7-43EB-B693-520DF3525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4FCE-98A5-4F74-9238-960756D53E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4293-43D5-4EA0-B6B6-969F41EC9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9A44-AF2F-4C41-AD6E-2B2334DEE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5A7C-895B-4B1C-B4BF-31A1171069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E0C-4D83-4368-BD74-898F878A7A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772400" cy="273672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1"/>
          <p:cNvSpPr/>
          <p:nvPr/>
        </p:nvSpPr>
        <p:spPr>
          <a:xfrm>
            <a:off x="4140360" y="5084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Составила учитель МБОУ СОШ №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Колесников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. Name 12 colours. What`s your favourite colour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. Name 15 items of clothing and say what you are wearing today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3. Name 15 animals. What`s your favourite animal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Have you got a pet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4. Name all days of the week. What`s your favourite day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5. Name all months of the year. What`s your favourite month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6. Speak about your day. What do you do every day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What did you do yesterday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7. What`s your favourite food? Name 7 fruit and 7 vegetables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8. Name all subjects you have at school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9. What`s your favourite subject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0. Name 5 rooms in the house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1. Name 10 items of furniture. What is there in your room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2. Name 10 parts of body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you a ………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am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………. me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can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speak ……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do, but not very well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……. a student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he is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she ….. Spanish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she does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y speak ……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they do, but not very we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700000" y="333360"/>
            <a:ext cx="6443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rip to Knowledgelan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7" name="Picture 3" descr="BD13659_"/>
          <p:cNvPicPr/>
          <p:nvPr/>
        </p:nvPicPr>
        <p:blipFill>
          <a:blip r:embed="rId1"/>
          <a:stretch/>
        </p:blipFill>
        <p:spPr>
          <a:xfrm>
            <a:off x="4091040" y="4680000"/>
            <a:ext cx="5052960" cy="21780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4"/>
          <p:cNvSpPr/>
          <p:nvPr/>
        </p:nvSpPr>
        <p:spPr>
          <a:xfrm rot="13238400">
            <a:off x="324000" y="47239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2987640" y="5734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1476360" y="5445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 rot="20438400">
            <a:off x="197964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755640" y="393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>
            <a:off x="3419640" y="3357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"/>
          <p:cNvSpPr/>
          <p:nvPr/>
        </p:nvSpPr>
        <p:spPr>
          <a:xfrm rot="20197800">
            <a:off x="4716360" y="314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6012000" y="2492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2"/>
          <p:cNvSpPr/>
          <p:nvPr/>
        </p:nvSpPr>
        <p:spPr>
          <a:xfrm rot="15047400">
            <a:off x="6923520" y="158184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/>
          <p:cNvSpPr/>
          <p:nvPr/>
        </p:nvSpPr>
        <p:spPr>
          <a:xfrm>
            <a:off x="3780000" y="155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"/>
          <p:cNvSpPr/>
          <p:nvPr/>
        </p:nvSpPr>
        <p:spPr>
          <a:xfrm>
            <a:off x="5148360" y="1341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6" descr="626582172"/>
          <p:cNvPicPr/>
          <p:nvPr/>
        </p:nvPicPr>
        <p:blipFill>
          <a:blip r:embed="rId2"/>
          <a:stretch/>
        </p:blipFill>
        <p:spPr>
          <a:xfrm>
            <a:off x="0" y="549360"/>
            <a:ext cx="341964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ion 1</a:t>
            </a:r>
            <a:br>
              <a:rPr sz="4400"/>
            </a:br>
            <a:br>
              <a:rPr sz="4400"/>
            </a:br>
            <a:r>
              <a:rPr b="1" lang="en-US" sz="6900" spc="-1" strike="noStrike">
                <a:solidFill>
                  <a:srgbClr val="feec94"/>
                </a:solidFill>
                <a:latin typeface="Times New Roman"/>
              </a:rPr>
              <a:t>Phonetics</a:t>
            </a:r>
            <a:endParaRPr b="1" lang="en-US" sz="69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01" name="Picture 3" descr="24737972_uchilka3"/>
          <p:cNvPicPr/>
          <p:nvPr/>
        </p:nvPicPr>
        <p:blipFill>
          <a:blip r:embed="rId1"/>
          <a:stretch/>
        </p:blipFill>
        <p:spPr>
          <a:xfrm>
            <a:off x="7020000" y="3645000"/>
            <a:ext cx="2124000" cy="32130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4"/>
          <p:cNvSpPr/>
          <p:nvPr/>
        </p:nvSpPr>
        <p:spPr>
          <a:xfrm>
            <a:off x="17928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1139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54061"/>
                </a:solidFill>
                <a:latin typeface="Arial"/>
              </a:rPr>
              <a:t>Hickery, pickery my black cat likes to sit in my blue hat.</a:t>
            </a:r>
            <a:endParaRPr b="0" lang="en-US" sz="4500" spc="-1" strike="noStrike">
              <a:solidFill>
                <a:srgbClr val="254061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54061"/>
                </a:solidFill>
                <a:latin typeface="Arial"/>
              </a:rPr>
              <a:t>A girl sees three big grey geese. Sid sees six geese.</a:t>
            </a:r>
            <a:endParaRPr b="0" lang="en-US" sz="41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305" name="Picture 4" descr="Рисунок8"/>
          <p:cNvPicPr/>
          <p:nvPr/>
        </p:nvPicPr>
        <p:blipFill>
          <a:blip r:embed="rId4"/>
          <a:stretch/>
        </p:blipFill>
        <p:spPr>
          <a:xfrm>
            <a:off x="6804000" y="24210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Рисунок15"/>
          <p:cNvPicPr/>
          <p:nvPr/>
        </p:nvPicPr>
        <p:blipFill>
          <a:blip r:embed="rId5"/>
          <a:stretch/>
        </p:blipFill>
        <p:spPr>
          <a:xfrm>
            <a:off x="7378560" y="5229360"/>
            <a:ext cx="1765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36480" y="29052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ion 2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6900" spc="-1" strike="noStrike">
                <a:solidFill>
                  <a:srgbClr val="feec94"/>
                </a:solidFill>
                <a:latin typeface="Times New Roman"/>
              </a:rPr>
              <a:t> Grammar</a:t>
            </a:r>
            <a:endParaRPr b="1" lang="en-US" sz="69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08" name="Picture 3" descr="24737972_uchilka3"/>
          <p:cNvPicPr/>
          <p:nvPr/>
        </p:nvPicPr>
        <p:blipFill>
          <a:blip r:embed="rId1"/>
          <a:stretch/>
        </p:blipFill>
        <p:spPr>
          <a:xfrm>
            <a:off x="7093080" y="3573360"/>
            <a:ext cx="2050920" cy="32846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4"/>
          <p:cNvSpPr/>
          <p:nvPr/>
        </p:nvSpPr>
        <p:spPr>
          <a:xfrm>
            <a:off x="17928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187280" y="259920"/>
            <a:ext cx="7777440" cy="63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254061"/>
                </a:solidFill>
                <a:latin typeface="Arial"/>
              </a:rPr>
              <a:t>Fill in the gaps with </a:t>
            </a:r>
            <a:r>
              <a:rPr b="1" i="1" lang="en-US" sz="4100" spc="-1" strike="noStrike">
                <a:solidFill>
                  <a:srgbClr val="254061"/>
                </a:solidFill>
                <a:latin typeface="Arial"/>
              </a:rPr>
              <a:t>am, is, are</a:t>
            </a:r>
            <a:r>
              <a:rPr b="0" lang="en-US" sz="41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41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I … fine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You … from England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He … very strong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My sister … busy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I have a cat. It … fat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Trees … green in spring.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My brother … good at school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They … not good friends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I … in class five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187280" y="1412640"/>
            <a:ext cx="7428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ere, room, in, is, sofa, nice, a, the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ere, toys, are, in, box, the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omputer, there, no, is, in, room, the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nice you are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you how old are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is she where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good they friends not are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324000" y="622440"/>
            <a:ext cx="8229600" cy="981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042920" y="1557360"/>
            <a:ext cx="7655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Ann and Mike is friends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My hobby has reading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We English are.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I have a books.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I not am in class six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54061"/>
              </a:solidFill>
              <a:latin typeface="Arial"/>
            </a:endParaRPr>
          </a:p>
          <a:p>
            <a:pPr marL="5716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ion 3.</a:t>
            </a:r>
            <a:br>
              <a:rPr sz="4400"/>
            </a:br>
            <a:br>
              <a:rPr sz="4400"/>
            </a:br>
            <a:r>
              <a:rPr b="1" lang="en-US" sz="6900" spc="-1" strike="noStrike">
                <a:solidFill>
                  <a:srgbClr val="feec94"/>
                </a:solidFill>
                <a:latin typeface="Times New Roman"/>
              </a:rPr>
              <a:t>Vocabulary</a:t>
            </a:r>
            <a:endParaRPr b="1" lang="en-US" sz="69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16" name="Picture 3" descr="24737972_uchilka3"/>
          <p:cNvPicPr/>
          <p:nvPr/>
        </p:nvPicPr>
        <p:blipFill>
          <a:blip r:embed="rId1"/>
          <a:stretch/>
        </p:blipFill>
        <p:spPr>
          <a:xfrm>
            <a:off x="7020000" y="3645000"/>
            <a:ext cx="2124000" cy="321300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4"/>
          <p:cNvSpPr/>
          <p:nvPr/>
        </p:nvSpPr>
        <p:spPr>
          <a:xfrm>
            <a:off x="46836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7:03:12Z</dcterms:created>
  <dc:creator>Наталья</dc:creator>
  <dc:description/>
  <dc:language>en-US</dc:language>
  <cp:lastModifiedBy>on</cp:lastModifiedBy>
  <dcterms:modified xsi:type="dcterms:W3CDTF">2018-02-21T04:22:21Z</dcterms:modified>
  <cp:revision>8</cp:revision>
  <dc:subject/>
  <dc:title>Слайд 1</dc:title>
</cp:coreProperties>
</file>