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9.png" ContentType="image/png"/>
  <Override PartName="/ppt/media/image1.png" ContentType="image/png"/>
  <Override PartName="/ppt/media/carbrake.wav" ContentType="audio/x-wav"/>
  <Override PartName="/ppt/media/image18.png" ContentType="image/png"/>
  <Override PartName="/ppt/media/image17.png" ContentType="image/png"/>
  <Override PartName="/ppt/media/image16.png" ContentType="image/png"/>
  <Override PartName="/ppt/media/image13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6F3-C30B-4CF5-A1AF-982FD00F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DDF-86E5-4C18-9036-E0758762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F54-12BB-49D0-BA07-C0A692DB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23A-3B01-4417-894D-B8D98B1B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5FA1-C1DB-4099-863F-2046F67C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63FB-3FB6-4971-B4F7-59FECA3B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4630-428A-497B-BD15-6507FE7B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23F8-CEDA-4CA6-B1F8-F44D5290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4819-3B39-4F91-8BE1-28865A24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6AFD-D778-449A-845A-B1BE5628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2819-70EC-4F33-B209-816F083F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9B8-2B88-4848-BEC3-04EA7094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825D-5822-4E7A-9A89-A4CE8277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CD76-9D25-4EF6-B772-DF08EA41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25B3-07EB-427B-8A1C-33CAAE3C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BB5D-F06D-4058-9AFB-45FD26C7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2DD9-F1A3-4E05-A9C0-A736D776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D6BB-D16E-4A51-8BA5-9B02634C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96FF-8157-4408-942B-E5B0F286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A385C-0D06-4256-99E3-B085C3FE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5E89-16DD-417A-BBFC-3BDCFF08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0EE8-B6E5-4D9C-BF1D-4045DFB8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50D-AF68-48D7-99B0-52E8D41D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BD1F-E26E-4D8E-891E-BE289EA3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7A14-3B07-4E4B-9C5C-D95718F4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7297-B2CD-4B20-9AEE-5AC50C06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CF7D7-ECBC-48E3-86BC-8BCC4CAC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3B5F-FA46-4584-B104-2A817C41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4AC7-6950-4016-B25F-25B10F40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244A-E288-405C-8417-F71BC0CE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4552-3D54-40B0-B6B1-4F44ADBC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C6FFE-3D8C-4CA6-8EED-C52262AB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C0DB-3C6D-4BD0-8CBE-F7D666B1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184-753D-442B-9C97-5B96CADB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22D51-B31D-498A-8999-8285D627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10314-5274-4FA0-90E3-7F1F7986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A4BB1-14E5-43F2-B3D0-32C69D41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3AB06-7117-499C-8680-9799C538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77F46-5998-489D-9F2B-6F3C68CC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C674A-0BFF-47BE-8A2C-23346FF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6727E-F6E4-454C-BF3B-6EF04877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CB29-9FC9-4DF9-A6FB-9E903C27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59A4-4757-41BA-868D-E109563B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BFE98-A7BA-45F4-9007-5CE82679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8DD-EBDC-4D8F-9EEA-0751B1D8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47AD4-ADB2-4FDD-A16A-F83CBB89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12527-E966-4D02-9D3B-34259290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3A31D-C632-4984-9D9C-37EA65A3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6B4FD-9716-4F99-AF38-801A06D0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A26AD-B9C2-48A3-BD19-80796EDC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E05D4-1BBA-4C51-B856-78B2B592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33703-258F-44B4-9C53-9B2A01CE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42A0C-1AA5-4ED4-A14E-A175E64C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EB7CD-0481-42BD-8A21-B381BC8F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2BA4A-6985-421D-9216-0440ABF7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5EE-2F5C-4BFE-AE5A-884C6AE4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0606A-A510-4FCA-8AE2-607DE087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F4B91-10C7-4517-9D34-F463F051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565BE-A993-40CE-A419-A9C4C23E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ED241-AFE5-48F6-B3DF-A9ED5103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16C20-7385-4D5C-A5F0-B65879C1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B8477-2DF5-4221-966F-D4DC61BF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D4E76-D8DA-4D30-ADE9-DFE3F934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F83B4-93A4-4C2E-B890-3184F91D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4F466-AFBE-4718-85DC-A236B4C2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04843-CAEA-43FF-8DC6-D8E27891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756-28BA-4E1F-8CAE-9B0A0EA1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4CF07-43E8-4E28-80E7-B079DC39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EDA76-9DF7-4428-A10C-7FEA55C9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34D87-0E59-41B0-83E2-567D4C58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485-5553-4C10-A7DB-3BB9765E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FA5-2C20-4C4A-8FF0-15059666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21BD-D8FF-401C-AC25-EA8D41692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D81F-97B2-4340-92C9-24950CD429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D16B-33F5-4984-AFEE-B22FC6C1A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407B-4D3B-4B4D-B4F5-0FBA29F21E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736E-4F06-47F2-A0E3-FAAE3B24E0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E523-19BD-464D-A286-EB72B8D602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772400" cy="273672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1"/>
          <p:cNvSpPr/>
          <p:nvPr/>
        </p:nvSpPr>
        <p:spPr>
          <a:xfrm>
            <a:off x="4140360" y="5084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Составила учитель МБОУ СОШ №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Колесников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. Name 12 colours. What`s your favourite colour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2. Name 15 items of clothing and say what you are wearing today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3. Name 15 animals. What`s your favourite animal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Have you got a pet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4. Name all days of the week. What`s your favourite day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5. Name all months of the year. What`s your favourite month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6. Speak about your day. What do you do every day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What did you do yesterday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7. What`s your favourite food? Name 7 fruit and 7 vegetables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8. Name all subjects you have at school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9. What`s your favourite subject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0. Name 5 rooms in the house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1. Name 10 items of furniture. What is there in your room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2. Name 10 parts of body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you a ………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am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………. me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can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speak ……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do, but not very well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……. a student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he is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she ….. Spanish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she does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y speak ……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they do, but not very we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700000" y="333360"/>
            <a:ext cx="6443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rip to Knowledgeland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7" name="Picture 3" descr="BD13659_"/>
          <p:cNvPicPr/>
          <p:nvPr/>
        </p:nvPicPr>
        <p:blipFill>
          <a:blip r:embed="rId1"/>
          <a:stretch/>
        </p:blipFill>
        <p:spPr>
          <a:xfrm>
            <a:off x="4091040" y="4680000"/>
            <a:ext cx="5052960" cy="217800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4"/>
          <p:cNvSpPr/>
          <p:nvPr/>
        </p:nvSpPr>
        <p:spPr>
          <a:xfrm rot="13238400">
            <a:off x="324000" y="47239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2987640" y="5734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1476360" y="5445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 rot="20438400">
            <a:off x="1979640" y="386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755640" y="393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>
            <a:off x="3419640" y="3357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"/>
          <p:cNvSpPr/>
          <p:nvPr/>
        </p:nvSpPr>
        <p:spPr>
          <a:xfrm rot="20197800">
            <a:off x="4716360" y="314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6012000" y="2492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2"/>
          <p:cNvSpPr/>
          <p:nvPr/>
        </p:nvSpPr>
        <p:spPr>
          <a:xfrm rot="15047400">
            <a:off x="6923520" y="158184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/>
          <p:cNvSpPr/>
          <p:nvPr/>
        </p:nvSpPr>
        <p:spPr>
          <a:xfrm>
            <a:off x="3780000" y="155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"/>
          <p:cNvSpPr/>
          <p:nvPr/>
        </p:nvSpPr>
        <p:spPr>
          <a:xfrm>
            <a:off x="5148360" y="1341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6" descr="626582172"/>
          <p:cNvPicPr/>
          <p:nvPr/>
        </p:nvPicPr>
        <p:blipFill>
          <a:blip r:embed="rId2"/>
          <a:stretch/>
        </p:blipFill>
        <p:spPr>
          <a:xfrm>
            <a:off x="0" y="549360"/>
            <a:ext cx="341964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tion 1</a:t>
            </a:r>
            <a:br>
              <a:rPr sz="4400"/>
            </a:br>
            <a:br>
              <a:rPr sz="4400"/>
            </a:br>
            <a:r>
              <a:rPr b="1" lang="en-US" sz="6900" spc="-1" strike="noStrike">
                <a:solidFill>
                  <a:srgbClr val="feec94"/>
                </a:solidFill>
                <a:latin typeface="Times New Roman"/>
              </a:rPr>
              <a:t>Phonetics</a:t>
            </a:r>
            <a:endParaRPr b="1" lang="en-US" sz="69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01" name="Picture 3" descr="24737972_uchilka3"/>
          <p:cNvPicPr/>
          <p:nvPr/>
        </p:nvPicPr>
        <p:blipFill>
          <a:blip r:embed="rId1"/>
          <a:stretch/>
        </p:blipFill>
        <p:spPr>
          <a:xfrm>
            <a:off x="7020000" y="3645000"/>
            <a:ext cx="2124000" cy="32130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4"/>
          <p:cNvSpPr/>
          <p:nvPr/>
        </p:nvSpPr>
        <p:spPr>
          <a:xfrm>
            <a:off x="179280" y="26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1139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54061"/>
                </a:solidFill>
                <a:latin typeface="Arial"/>
              </a:rPr>
              <a:t>Hickery, pickery my black cat likes to sit in my blue hat.</a:t>
            </a:r>
            <a:endParaRPr b="0" lang="en-US" sz="4500" spc="-1" strike="noStrike">
              <a:solidFill>
                <a:srgbClr val="254061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54061"/>
                </a:solidFill>
                <a:latin typeface="Arial"/>
              </a:rPr>
              <a:t>A girl sees three big grey geese. Sid sees six geese.</a:t>
            </a:r>
            <a:endParaRPr b="0" lang="en-US" sz="41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305" name="Picture 4" descr="Рисунок8"/>
          <p:cNvPicPr/>
          <p:nvPr/>
        </p:nvPicPr>
        <p:blipFill>
          <a:blip r:embed="rId4"/>
          <a:stretch/>
        </p:blipFill>
        <p:spPr>
          <a:xfrm>
            <a:off x="6804000" y="242100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Рисунок15"/>
          <p:cNvPicPr/>
          <p:nvPr/>
        </p:nvPicPr>
        <p:blipFill>
          <a:blip r:embed="rId5"/>
          <a:stretch/>
        </p:blipFill>
        <p:spPr>
          <a:xfrm>
            <a:off x="7378560" y="5229360"/>
            <a:ext cx="1765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36480" y="29052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tion 2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6900" spc="-1" strike="noStrike">
                <a:solidFill>
                  <a:srgbClr val="feec94"/>
                </a:solidFill>
                <a:latin typeface="Times New Roman"/>
              </a:rPr>
              <a:t> Grammar</a:t>
            </a:r>
            <a:endParaRPr b="1" lang="en-US" sz="69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08" name="Picture 3" descr="24737972_uchilka3"/>
          <p:cNvPicPr/>
          <p:nvPr/>
        </p:nvPicPr>
        <p:blipFill>
          <a:blip r:embed="rId1"/>
          <a:stretch/>
        </p:blipFill>
        <p:spPr>
          <a:xfrm>
            <a:off x="7093080" y="3573360"/>
            <a:ext cx="2050920" cy="32846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4"/>
          <p:cNvSpPr/>
          <p:nvPr/>
        </p:nvSpPr>
        <p:spPr>
          <a:xfrm>
            <a:off x="179280" y="26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187280" y="259920"/>
            <a:ext cx="7777440" cy="63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254061"/>
                </a:solidFill>
                <a:latin typeface="Arial"/>
              </a:rPr>
              <a:t>Fill in the gaps with </a:t>
            </a:r>
            <a:r>
              <a:rPr b="1" i="1" lang="en-US" sz="4100" spc="-1" strike="noStrike">
                <a:solidFill>
                  <a:srgbClr val="254061"/>
                </a:solidFill>
                <a:latin typeface="Arial"/>
              </a:rPr>
              <a:t>am, is, are</a:t>
            </a:r>
            <a:r>
              <a:rPr b="0" lang="en-US" sz="41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41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I … fine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You … from England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He … very strong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My sister … busy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I have a cat. It … fat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Trees … green in spring.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My brother … good at school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They … not good friends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I … in class five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187280" y="1412640"/>
            <a:ext cx="7428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ere, room, in, is, sofa, nice, a, the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ere, toys, are, in, box, the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omputer, there, no, is, in, room, the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nice you are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you how old are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is she where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good they friends not are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324000" y="622440"/>
            <a:ext cx="8229600" cy="981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042920" y="1557360"/>
            <a:ext cx="76550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Ann and Mike is friends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My hobby has reading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We English are.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I have a books.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I not am in class six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54061"/>
              </a:solidFill>
              <a:latin typeface="Arial"/>
            </a:endParaRPr>
          </a:p>
          <a:p>
            <a:pPr marL="5716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tion 3.</a:t>
            </a:r>
            <a:br>
              <a:rPr sz="4400"/>
            </a:br>
            <a:br>
              <a:rPr sz="4400"/>
            </a:br>
            <a:r>
              <a:rPr b="1" lang="en-US" sz="6900" spc="-1" strike="noStrike">
                <a:solidFill>
                  <a:srgbClr val="feec94"/>
                </a:solidFill>
                <a:latin typeface="Times New Roman"/>
              </a:rPr>
              <a:t>Vocabulary</a:t>
            </a:r>
            <a:endParaRPr b="1" lang="en-US" sz="69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16" name="Picture 3" descr="24737972_uchilka3"/>
          <p:cNvPicPr/>
          <p:nvPr/>
        </p:nvPicPr>
        <p:blipFill>
          <a:blip r:embed="rId1"/>
          <a:stretch/>
        </p:blipFill>
        <p:spPr>
          <a:xfrm>
            <a:off x="7020000" y="3645000"/>
            <a:ext cx="2124000" cy="321300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4"/>
          <p:cNvSpPr/>
          <p:nvPr/>
        </p:nvSpPr>
        <p:spPr>
          <a:xfrm>
            <a:off x="468360" y="26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7:03:12Z</dcterms:created>
  <dc:creator>Наталья</dc:creator>
  <dc:description/>
  <dc:language>en-US</dc:language>
  <cp:lastModifiedBy>on</cp:lastModifiedBy>
  <dcterms:modified xsi:type="dcterms:W3CDTF">2018-02-21T04:22:21Z</dcterms:modified>
  <cp:revision>8</cp:revision>
  <dc:subject/>
  <dc:title>Слайд 1</dc:title>
</cp:coreProperties>
</file>