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287-964D-486A-90D5-644C8901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AB4-DD2A-4958-8E89-2E49DF71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AE6-710A-4392-8618-57C82331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B71-1761-4C1D-AC4A-540FE98E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8CA-CDDB-4621-A469-F7A63F38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B62-DE50-411B-A031-0E429905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022-95A4-45BD-BECB-6D1F8274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E08-F536-4B55-81A6-1F731793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96E-6F97-44B9-A143-239C2D0C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314-7853-446A-84CA-2EF6D82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649-336F-400C-B9D2-E980E09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BEE-0A1A-4214-8610-D90324E8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ACBE-23D0-467F-9789-2B13D98BF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983182-741794-teenage-students-in-library-reading-books"/>
          <p:cNvPicPr/>
          <p:nvPr/>
        </p:nvPicPr>
        <p:blipFill>
          <a:blip r:embed="rId1"/>
          <a:stretch/>
        </p:blipFill>
        <p:spPr>
          <a:xfrm>
            <a:off x="152280" y="68580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ebooks1111"/>
          <p:cNvPicPr/>
          <p:nvPr/>
        </p:nvPicPr>
        <p:blipFill>
          <a:blip r:embed="rId2"/>
          <a:stretch/>
        </p:blipFill>
        <p:spPr>
          <a:xfrm>
            <a:off x="1447920" y="3962520"/>
            <a:ext cx="5410080" cy="271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world-book-copyrigth"/>
          <p:cNvPicPr/>
          <p:nvPr/>
        </p:nvPicPr>
        <p:blipFill>
          <a:blip r:embed="rId3"/>
          <a:stretch/>
        </p:blipFill>
        <p:spPr>
          <a:xfrm>
            <a:off x="4876920" y="1066680"/>
            <a:ext cx="40194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634785"/>
          <p:cNvPicPr/>
          <p:nvPr/>
        </p:nvPicPr>
        <p:blipFill>
          <a:blip r:embed="rId1"/>
          <a:stretch/>
        </p:blipFill>
        <p:spPr>
          <a:xfrm>
            <a:off x="1295280" y="762120"/>
            <a:ext cx="66103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many ________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 am not a tre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omething nice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and ________ me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short or very ______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____ or quite sad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read me you’ll be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openbook"/>
          <p:cNvPicPr/>
          <p:nvPr/>
        </p:nvPicPr>
        <p:blipFill>
          <a:blip r:embed="rId1"/>
          <a:stretch/>
        </p:blipFill>
        <p:spPr>
          <a:xfrm>
            <a:off x="2286000" y="304920"/>
            <a:ext cx="38098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many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eav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 am not a tre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omething nice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and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short or very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un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quite sad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read me you’ll b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l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s15"/>
          <p:cNvPicPr/>
          <p:nvPr/>
        </p:nvPicPr>
        <p:blipFill>
          <a:blip r:embed="rId1"/>
          <a:stretch/>
        </p:blipFill>
        <p:spPr>
          <a:xfrm>
            <a:off x="2819520" y="274680"/>
            <a:ext cx="24778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a fairy tale 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fairy and unusual creatures especially for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a fantasy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strange and unreal wor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a detective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where criminals did some illegal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a love story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 book which tells about people who love and have som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an adventure story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n exciting book about different actions and interest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a biography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life of a famous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) a historical book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s a book which tells about past events of som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 a  mystery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some mystical events which can be real someti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) a horror story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s a book which tells about scary monsters in some dangerous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)  a legend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heroes and strange creatures which people tell eac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write_together_genres"/>
          <p:cNvPicPr/>
          <p:nvPr/>
        </p:nvPicPr>
        <p:blipFill>
          <a:blip r:embed="rId1"/>
          <a:stretch/>
        </p:blipFill>
        <p:spPr>
          <a:xfrm>
            <a:off x="3352680" y="0"/>
            <a:ext cx="2381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k Tw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JRow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nathan Sw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. Ki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gulliver"/>
          <p:cNvPicPr/>
          <p:nvPr/>
        </p:nvPicPr>
        <p:blipFill>
          <a:blip r:embed="rId1"/>
          <a:stretch/>
        </p:blipFill>
        <p:spPr>
          <a:xfrm>
            <a:off x="1143000" y="763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Nd9GcTwsQM8vgs3Z9dR-38j-GZyILEyi40UlmlV8pSBOeDXO1NA32wq"/>
          <p:cNvPicPr/>
          <p:nvPr/>
        </p:nvPicPr>
        <p:blipFill>
          <a:blip r:embed="rId2"/>
          <a:stretch/>
        </p:blipFill>
        <p:spPr>
          <a:xfrm>
            <a:off x="1143000" y="144792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tom_sawyer_1980_1"/>
          <p:cNvPicPr/>
          <p:nvPr/>
        </p:nvPicPr>
        <p:blipFill>
          <a:blip r:embed="rId3"/>
          <a:stretch/>
        </p:blipFill>
        <p:spPr>
          <a:xfrm>
            <a:off x="1143000" y="27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LOExwKoxdkdeBvVi7NkaFl5Wa5"/>
          <p:cNvPicPr/>
          <p:nvPr/>
        </p:nvPicPr>
        <p:blipFill>
          <a:blip r:embed="rId4"/>
          <a:stretch/>
        </p:blipFill>
        <p:spPr>
          <a:xfrm>
            <a:off x="1143000" y="40384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SY32JrqIAxLFSn4zOr_ygpkg42Dc_Vy5U_6Wh1oNtAzdAwpmZo"/>
          <p:cNvPicPr/>
          <p:nvPr/>
        </p:nvPicPr>
        <p:blipFill>
          <a:blip r:embed="rId5"/>
          <a:stretch/>
        </p:blipFill>
        <p:spPr>
          <a:xfrm>
            <a:off x="1066680" y="5410080"/>
            <a:ext cx="14464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quotes-e1359626462306"/>
          <p:cNvPicPr/>
          <p:nvPr/>
        </p:nvPicPr>
        <p:blipFill>
          <a:blip r:embed="rId1"/>
          <a:stretch/>
        </p:blipFill>
        <p:spPr>
          <a:xfrm>
            <a:off x="1295280" y="990720"/>
            <a:ext cx="70581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books make you better"/>
          <p:cNvPicPr/>
          <p:nvPr/>
        </p:nvPicPr>
        <p:blipFill>
          <a:blip r:embed="rId1"/>
          <a:stretch/>
        </p:blipFill>
        <p:spPr>
          <a:xfrm>
            <a:off x="609480" y="533520"/>
            <a:ext cx="8328240" cy="5529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5715000"/>
            <a:ext cx="8248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зентация составлена учителем английского языка МБОУ СОЩ № 10 Саркисянц Е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7-10-08T15:20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