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B1B-ED10-4121-B7CA-E249652B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E49-D29D-4387-AB8B-A3EF77D5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017-6859-42AA-8CC7-F1865162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310-DAF4-4265-A7E9-EB016AC1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6F1-AB2E-4AC3-B7E1-61B23C6E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EA4-2CB7-4583-A982-EC3B5469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1C6-8036-4AC6-930F-800C5573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E9B-F074-4F14-9CA3-047C85F0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86B-3580-4AA3-B84D-BB26E207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5C0-2BF8-481A-9D0B-F86B493F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91A-CFF0-485E-8CF2-8E5AB2E2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6D0-16D4-4A06-8D4F-6C82BD3C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9D8D-E0DF-4F0E-93F1-A85B23AA8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983182-741794-teenage-students-in-library-reading-books"/>
          <p:cNvPicPr/>
          <p:nvPr/>
        </p:nvPicPr>
        <p:blipFill>
          <a:blip r:embed="rId1"/>
          <a:stretch/>
        </p:blipFill>
        <p:spPr>
          <a:xfrm>
            <a:off x="152280" y="68580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ebooks1111"/>
          <p:cNvPicPr/>
          <p:nvPr/>
        </p:nvPicPr>
        <p:blipFill>
          <a:blip r:embed="rId2"/>
          <a:stretch/>
        </p:blipFill>
        <p:spPr>
          <a:xfrm>
            <a:off x="1447920" y="3962520"/>
            <a:ext cx="5410080" cy="271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world-book-copyrigth"/>
          <p:cNvPicPr/>
          <p:nvPr/>
        </p:nvPicPr>
        <p:blipFill>
          <a:blip r:embed="rId3"/>
          <a:stretch/>
        </p:blipFill>
        <p:spPr>
          <a:xfrm>
            <a:off x="4876920" y="1066680"/>
            <a:ext cx="40194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634785"/>
          <p:cNvPicPr/>
          <p:nvPr/>
        </p:nvPicPr>
        <p:blipFill>
          <a:blip r:embed="rId1"/>
          <a:stretch/>
        </p:blipFill>
        <p:spPr>
          <a:xfrm>
            <a:off x="1295280" y="762120"/>
            <a:ext cx="66103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many ________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 am not a tre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omething nice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and ________ me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short or very ______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____ or quite sad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read me you’ll be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openbook"/>
          <p:cNvPicPr/>
          <p:nvPr/>
        </p:nvPicPr>
        <p:blipFill>
          <a:blip r:embed="rId1"/>
          <a:stretch/>
        </p:blipFill>
        <p:spPr>
          <a:xfrm>
            <a:off x="2286000" y="304920"/>
            <a:ext cx="38098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many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eav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 am not a tre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omething nice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and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short or very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un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quite sad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read me you’ll b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l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s15"/>
          <p:cNvPicPr/>
          <p:nvPr/>
        </p:nvPicPr>
        <p:blipFill>
          <a:blip r:embed="rId1"/>
          <a:stretch/>
        </p:blipFill>
        <p:spPr>
          <a:xfrm>
            <a:off x="2819520" y="274680"/>
            <a:ext cx="24778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a fairy tale 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fairy and unusual creatures especially for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a fantasy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strange and unreal wor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a detective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where criminals did some illegal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a love story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 book which tells about people who love and have som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an adventure story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n exciting book about different actions and interest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a biography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life of a famous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) a historical book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s a book which tells about past events of som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 a  mystery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some mystical events which can be real someti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) a horror story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s a book which tells about scary monsters in some dangerous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)  a legend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heroes and strange creatures which people tell eac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write_together_genres"/>
          <p:cNvPicPr/>
          <p:nvPr/>
        </p:nvPicPr>
        <p:blipFill>
          <a:blip r:embed="rId1"/>
          <a:stretch/>
        </p:blipFill>
        <p:spPr>
          <a:xfrm>
            <a:off x="3352680" y="0"/>
            <a:ext cx="2381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k Tw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JRow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nathan Sw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. Ki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gulliver"/>
          <p:cNvPicPr/>
          <p:nvPr/>
        </p:nvPicPr>
        <p:blipFill>
          <a:blip r:embed="rId1"/>
          <a:stretch/>
        </p:blipFill>
        <p:spPr>
          <a:xfrm>
            <a:off x="1143000" y="763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Nd9GcTwsQM8vgs3Z9dR-38j-GZyILEyi40UlmlV8pSBOeDXO1NA32wq"/>
          <p:cNvPicPr/>
          <p:nvPr/>
        </p:nvPicPr>
        <p:blipFill>
          <a:blip r:embed="rId2"/>
          <a:stretch/>
        </p:blipFill>
        <p:spPr>
          <a:xfrm>
            <a:off x="1143000" y="144792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tom_sawyer_1980_1"/>
          <p:cNvPicPr/>
          <p:nvPr/>
        </p:nvPicPr>
        <p:blipFill>
          <a:blip r:embed="rId3"/>
          <a:stretch/>
        </p:blipFill>
        <p:spPr>
          <a:xfrm>
            <a:off x="1143000" y="27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LOExwKoxdkdeBvVi7NkaFl5Wa5"/>
          <p:cNvPicPr/>
          <p:nvPr/>
        </p:nvPicPr>
        <p:blipFill>
          <a:blip r:embed="rId4"/>
          <a:stretch/>
        </p:blipFill>
        <p:spPr>
          <a:xfrm>
            <a:off x="1143000" y="40384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SY32JrqIAxLFSn4zOr_ygpkg42Dc_Vy5U_6Wh1oNtAzdAwpmZo"/>
          <p:cNvPicPr/>
          <p:nvPr/>
        </p:nvPicPr>
        <p:blipFill>
          <a:blip r:embed="rId5"/>
          <a:stretch/>
        </p:blipFill>
        <p:spPr>
          <a:xfrm>
            <a:off x="1066680" y="5410080"/>
            <a:ext cx="14464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quotes-e1359626462306"/>
          <p:cNvPicPr/>
          <p:nvPr/>
        </p:nvPicPr>
        <p:blipFill>
          <a:blip r:embed="rId1"/>
          <a:stretch/>
        </p:blipFill>
        <p:spPr>
          <a:xfrm>
            <a:off x="1295280" y="990720"/>
            <a:ext cx="70581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books make you better"/>
          <p:cNvPicPr/>
          <p:nvPr/>
        </p:nvPicPr>
        <p:blipFill>
          <a:blip r:embed="rId1"/>
          <a:stretch/>
        </p:blipFill>
        <p:spPr>
          <a:xfrm>
            <a:off x="609480" y="533520"/>
            <a:ext cx="8328240" cy="5529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5715000"/>
            <a:ext cx="8248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зентация составлена учителем английского языка МБОУ СОЩ № 10 Саркисянц Е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7-10-08T15:20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