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8D7-B5D2-4C46-8355-938DEB0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E68-0BD2-4FA2-A1C7-E9FC7AAF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1A7-6994-4837-97BB-000FFCEC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1B7-4E73-43E3-AFBD-73D951E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60F-CEE8-4ACB-AB82-46ECB2D7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C0A-CCEC-47F3-B12C-335740A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274-8483-4FC0-9D5F-3BC04E0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B44-3424-40D3-AC84-55B76CB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281-2FD9-4577-8E67-D35701F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220-9E81-4C1A-8286-636E2D1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68B-FA41-4330-9EEB-4EA5DDD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FB2-8524-48F3-8993-004DFA5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875-2118-4630-84CA-8A9FDC4E2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983182-741794-teenage-students-in-library-reading-books"/>
          <p:cNvPicPr/>
          <p:nvPr/>
        </p:nvPicPr>
        <p:blipFill>
          <a:blip r:embed="rId1"/>
          <a:stretch/>
        </p:blipFill>
        <p:spPr>
          <a:xfrm>
            <a:off x="152280" y="6858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ebooks1111"/>
          <p:cNvPicPr/>
          <p:nvPr/>
        </p:nvPicPr>
        <p:blipFill>
          <a:blip r:embed="rId2"/>
          <a:stretch/>
        </p:blipFill>
        <p:spPr>
          <a:xfrm>
            <a:off x="1447920" y="3962520"/>
            <a:ext cx="5410080" cy="27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world-book-copyrigth"/>
          <p:cNvPicPr/>
          <p:nvPr/>
        </p:nvPicPr>
        <p:blipFill>
          <a:blip r:embed="rId3"/>
          <a:stretch/>
        </p:blipFill>
        <p:spPr>
          <a:xfrm>
            <a:off x="4876920" y="1066680"/>
            <a:ext cx="40194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634785"/>
          <p:cNvPicPr/>
          <p:nvPr/>
        </p:nvPicPr>
        <p:blipFill>
          <a:blip r:embed="rId1"/>
          <a:stretch/>
        </p:blipFill>
        <p:spPr>
          <a:xfrm>
            <a:off x="1295280" y="762120"/>
            <a:ext cx="66103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__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________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______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____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openbook"/>
          <p:cNvPicPr/>
          <p:nvPr/>
        </p:nvPicPr>
        <p:blipFill>
          <a:blip r:embed="rId1"/>
          <a:stretch/>
        </p:blipFill>
        <p:spPr>
          <a:xfrm>
            <a:off x="2286000" y="304920"/>
            <a:ext cx="38098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man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eave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 am not a tre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omething nice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and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short or very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un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quite sad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o read me you’ll b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l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s15"/>
          <p:cNvPicPr/>
          <p:nvPr/>
        </p:nvPicPr>
        <p:blipFill>
          <a:blip r:embed="rId1"/>
          <a:stretch/>
        </p:blipFill>
        <p:spPr>
          <a:xfrm>
            <a:off x="2819520" y="274680"/>
            <a:ext cx="2477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a fairy tale 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fairy and unusual creatures especially for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 fantas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trange and unreal wor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a detective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where criminals did some illegal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a love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 book which tells about people who love and have som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an adventure stor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n exciting book about different actions and interest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a biography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life of a famous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) a historical book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past events of som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 a  mystery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some mystical events which can be real some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) a horror story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s a book which tells about scary monsters in some dangerous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)  a legend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is a book about heroes and strange creatures which people tell eac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rite_together_genres"/>
          <p:cNvPicPr/>
          <p:nvPr/>
        </p:nvPicPr>
        <p:blipFill>
          <a:blip r:embed="rId1"/>
          <a:stretch/>
        </p:blipFill>
        <p:spPr>
          <a:xfrm>
            <a:off x="3352680" y="0"/>
            <a:ext cx="2381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rk Tw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JRow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nathan Sw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. Ki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ulliver"/>
          <p:cNvPicPr/>
          <p:nvPr/>
        </p:nvPicPr>
        <p:blipFill>
          <a:blip r:embed="rId1"/>
          <a:stretch/>
        </p:blipFill>
        <p:spPr>
          <a:xfrm>
            <a:off x="1143000" y="763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Nd9GcTwsQM8vgs3Z9dR-38j-GZyILEyi40UlmlV8pSBOeDXO1NA32wq"/>
          <p:cNvPicPr/>
          <p:nvPr/>
        </p:nvPicPr>
        <p:blipFill>
          <a:blip r:embed="rId2"/>
          <a:stretch/>
        </p:blipFill>
        <p:spPr>
          <a:xfrm>
            <a:off x="1143000" y="14479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tom_sawyer_1980_1"/>
          <p:cNvPicPr/>
          <p:nvPr/>
        </p:nvPicPr>
        <p:blipFill>
          <a:blip r:embed="rId3"/>
          <a:stretch/>
        </p:blipFill>
        <p:spPr>
          <a:xfrm>
            <a:off x="11430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LOExwKoxdkdeBvVi7NkaFl5Wa5"/>
          <p:cNvPicPr/>
          <p:nvPr/>
        </p:nvPicPr>
        <p:blipFill>
          <a:blip r:embed="rId4"/>
          <a:stretch/>
        </p:blipFill>
        <p:spPr>
          <a:xfrm>
            <a:off x="1143000" y="403848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SY32JrqIAxLFSn4zOr_ygpkg42Dc_Vy5U_6Wh1oNtAzdAwpmZo"/>
          <p:cNvPicPr/>
          <p:nvPr/>
        </p:nvPicPr>
        <p:blipFill>
          <a:blip r:embed="rId5"/>
          <a:stretch/>
        </p:blipFill>
        <p:spPr>
          <a:xfrm>
            <a:off x="1066680" y="5410080"/>
            <a:ext cx="1446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quotes-e1359626462306"/>
          <p:cNvPicPr/>
          <p:nvPr/>
        </p:nvPicPr>
        <p:blipFill>
          <a:blip r:embed="rId1"/>
          <a:stretch/>
        </p:blipFill>
        <p:spPr>
          <a:xfrm>
            <a:off x="1295280" y="990720"/>
            <a:ext cx="70581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oks make you better"/>
          <p:cNvPicPr/>
          <p:nvPr/>
        </p:nvPicPr>
        <p:blipFill>
          <a:blip r:embed="rId1"/>
          <a:stretch/>
        </p:blipFill>
        <p:spPr>
          <a:xfrm>
            <a:off x="609480" y="533520"/>
            <a:ext cx="8328240" cy="5529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5715000"/>
            <a:ext cx="8248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английского языка МБОУ СОЩ № 10 Саркисянц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0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